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AD1-FDDB-414A-A388-18A84075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C54-26D5-4046-9541-7059A02D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3CE-F855-40F6-AB34-228A904A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AF8-FFFB-4D4B-8716-700D974C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4FCA-3958-4B58-B1FD-DA77C6A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0941-B4A4-4923-8043-0CB7E5C4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DE48-886E-4631-8CFC-31915AD7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71BF-6145-46DD-8817-9A76A7F9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5CE2-F8AA-49DC-B399-4D9E00CE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2E09-6116-43C0-873D-D3089871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44B7-A536-4969-A5B9-5BD4E7C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37D-CCEE-4452-9BE9-CB8B7DD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4AF9-6B46-4E94-8434-6E24173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91B2-4704-4B57-8083-02DDA764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7EC-E353-44CE-948B-E2BC38F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B259-6843-4491-95EF-F0181EC6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781B-D01D-48FA-9D96-53CB354A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35F-505C-4F38-B917-2E8A598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0F0-ADA9-494A-B90B-3D22B760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9D9-DFEF-4B78-BD08-A205D98F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154-9A1C-402E-BCCA-569D538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D98-A9C8-4E8E-BEA7-20A152F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6F5-22D6-4EA6-924E-24280EF3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064-87DF-49DD-97E5-39BF48B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52B-3B01-4824-BF21-4F11673D4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FD7D-33ED-4490-8DFF-8EF91287D4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Whoosh" TargetMode="External"/><Relationship Id="rId3" Type="http://schemas.microsoft.com/office/2007/relationships/media" Target="file:///tmp/home/.config/libreoffice/4/user/gallery/Whoosh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video" Target="file:///tmp/home/.config/libreoffice/4/user/gallery/Embedded%20Sound%202" TargetMode="External"/><Relationship Id="rId4" Type="http://schemas.microsoft.com/office/2007/relationships/media" Target="file:///tmp/home/.config/libreoffice/4/user/gallery/Embedded%20Sound%202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eghan Brenn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ns can be caused by fire, hot objects or liquids, electricity, the sun and chemic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120" y="4114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67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rst-degree burn in which only the outer layer of skin is burned and it turns 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ype of first-degree burn is sunbur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take care of it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submerge in cold water for 10-30 minutes and wrap burn loosely in clean 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First-degree 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88080" y="5105520"/>
            <a:ext cx="2455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Second-degree burna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a serious burn in which the burned area blis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uses intense redness, pain, and swell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usually heals without scarr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take care of it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merge in cold water. Don’t pop blisters or remove loose skin. Wrap burn loosely in clean, dry dressing. Elevate the burned 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15238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Third-degree 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a very serious burn in which deep layers of the skin and nerve ending are damag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urned areas may be white or charred, pains may be int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Call for medical hel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289584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08960" y="4114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08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1960" y="3352680"/>
            <a:ext cx="3886200" cy="60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s for watching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1:30Z</dcterms:created>
  <dc:creator>Kraybill Campus LMS</dc:creator>
  <dc:description/>
  <dc:language>en-US</dc:language>
  <cp:lastModifiedBy>Kraybill Campus LMS</cp:lastModifiedBy>
  <dcterms:modified xsi:type="dcterms:W3CDTF">2011-05-24T13:04:33Z</dcterms:modified>
  <cp:revision>9</cp:revision>
  <dc:subject/>
  <dc:title>Burns</dc:title>
</cp:coreProperties>
</file>